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32AB8-7C31-4508-888B-4AE44E9DA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8712A-B997-4AD0-B012-7281BD665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8CC6A-63F0-4B15-BFB1-E761ED58C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843CA-4D1D-4C0B-B9AD-6BECD626E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1BB1-BE5C-4339-9C25-7EBC40144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B607F-342B-414E-AD0D-381B0086B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C2FE-4E32-464A-B4D3-21AE9E5E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DF57C-E0FC-4E7E-88D5-372A2D2C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FC5B-7E0E-4970-8DE9-745D061AA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252D-3469-42C1-9674-B71EDBC7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F3FC-23D5-4225-9741-D2DB8AC0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C335-31E7-4771-A823-3164A23B0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BD52C936-8310-4E4F-9D90-534FC4DCF9A4}" type="datetime">
              <a:rPr b="0" lang="en-US" sz="5500" spc="-1" strike="noStrike">
                <a:solidFill>
                  <a:srgbClr val="898989"/>
                </a:solidFill>
                <a:latin typeface="Calibri"/>
              </a:rPr>
              <a:t>07/29/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51491CCC-5AD2-4C93-84D1-AF60750D4BD2}"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